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944640"/>
            <a:ext cx="4341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9960" y="4676400"/>
            <a:ext cx="46004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BC1D7-9E7F-4A60-9463-E7B3C1D99BA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800" y="944640"/>
            <a:ext cx="45338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EDEC5-AA5A-4B0C-8C8F-8A16A6627E2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7676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B38E9-901C-4420-B59B-190D7B43F122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736560"/>
            <a:ext cx="4914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762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0360" y="3780000"/>
            <a:ext cx="8280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5490"/>
                </a:solidFill>
                <a:latin typeface="Calibri"/>
              </a:rPr>
              <a:t>A REFORMA PSIQUIÁTRICA BRASILEIRA E OS TRABALHADORES: DESAFIOS DA GESTÃO DO TRABALHO</a:t>
            </a:r>
            <a:br>
              <a:rPr sz="2700"/>
            </a:br>
            <a:endParaRPr b="0" lang="en-US" sz="27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775040"/>
            <a:ext cx="712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0" y="5502240"/>
            <a:ext cx="47084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2960"/>
            <a:ext cx="24289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V Conferência Estadual de Saúde Mental Intersetorial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Saúde Mental e Políticas de Estado: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pactuar caminhos intersetoriai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5072040"/>
            <a:ext cx="692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92680" y="5211720"/>
            <a:ext cx="4572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Liliana Santo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NSTITUTO DE SAÚDE COLETIVA/UFB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Salvador, 25 de maio de 201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417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cesso de Trabalh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1000" y="1800360"/>
            <a:ext cx="475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Assistência à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7000" y="2182680"/>
            <a:ext cx="1800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7600" y="1292400"/>
            <a:ext cx="358920" cy="576000"/>
          </a:xfrm>
          <a:prstGeom prst="downArrow">
            <a:avLst>
              <a:gd name="adj1" fmla="val 35398"/>
              <a:gd name="adj2" fmla="val 50841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040" y="2948040"/>
            <a:ext cx="51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Trabalho 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59360" y="3443400"/>
            <a:ext cx="27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xercício Profissional</a:t>
            </a:r>
            <a:r>
              <a:rPr b="0" lang="pt-BR" sz="2000" spc="-1" strike="noStrike">
                <a:solidFill>
                  <a:srgbClr val="ffffd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rmação Profissional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3920" y="981000"/>
            <a:ext cx="432000" cy="1943280"/>
          </a:xfrm>
          <a:prstGeom prst="downArrow">
            <a:avLst>
              <a:gd name="adj1" fmla="val 35398"/>
              <a:gd name="adj2" fmla="val 142510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5653440" y="1956600"/>
            <a:ext cx="574920" cy="1150920"/>
          </a:xfrm>
          <a:custGeom>
            <a:avLst/>
            <a:gdLst>
              <a:gd name="textAreaLeft" fmla="*/ 0 w 574920"/>
              <a:gd name="textAreaRight" fmla="*/ 487440 w 5749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3" idx="2"/>
          </p:cNvCxnSpPr>
          <p:nvPr/>
        </p:nvCxnSpPr>
        <p:spPr>
          <a:xfrm flipV="1" rot="10800000">
            <a:off x="6651000" y="3126960"/>
            <a:ext cx="756360" cy="505440"/>
          </a:xfrm>
          <a:prstGeom prst="bentConnector3">
            <a:avLst>
              <a:gd name="adj1" fmla="val 50000"/>
            </a:avLst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5400000">
            <a:off x="3192840" y="3074040"/>
            <a:ext cx="504720" cy="1150920"/>
          </a:xfrm>
          <a:custGeom>
            <a:avLst/>
            <a:gdLst>
              <a:gd name="textAreaLeft" fmla="*/ 0 w 504720"/>
              <a:gd name="textAreaRight" fmla="*/ 428040 w 5047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99000" y="216864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198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9720" y="328140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20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40000">
            <a:off x="8023320" y="3668760"/>
            <a:ext cx="358560" cy="569880"/>
          </a:xfrm>
          <a:prstGeom prst="downArrow">
            <a:avLst>
              <a:gd name="adj1" fmla="val 35398"/>
              <a:gd name="adj2" fmla="val 82587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5080" y="4071960"/>
            <a:ext cx="1714680" cy="1227240"/>
          </a:xfrm>
          <a:prstGeom prst="rect">
            <a:avLst/>
          </a:prstGeom>
          <a:noFill/>
          <a:ln w="93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Form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7360" y="4316400"/>
            <a:ext cx="431640" cy="876240"/>
          </a:xfrm>
          <a:prstGeom prst="downArrow">
            <a:avLst>
              <a:gd name="adj1" fmla="val 35398"/>
              <a:gd name="adj2" fmla="val 643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0120" y="5337000"/>
            <a:ext cx="4730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7000" y="571680"/>
            <a:ext cx="562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143000"/>
            <a:ext cx="314280" cy="468360"/>
          </a:xfrm>
          <a:prstGeom prst="downArrow">
            <a:avLst>
              <a:gd name="adj1" fmla="val 35398"/>
              <a:gd name="adj2" fmla="val 472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1643040"/>
            <a:ext cx="3392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Afetos / compromissos / engajamentos / motivações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0800" y="2571840"/>
            <a:ext cx="2376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s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produzidos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e n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distribuí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066680"/>
            <a:ext cx="289080" cy="1800360"/>
          </a:xfrm>
          <a:prstGeom prst="downArrow">
            <a:avLst>
              <a:gd name="adj1" fmla="val 35398"/>
              <a:gd name="adj2" fmla="val 19730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862360"/>
            <a:ext cx="33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Em equipe,  são coletiv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3451320"/>
            <a:ext cx="316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podem ser organiza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3544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7760" y="4429080"/>
            <a:ext cx="33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não é um processo natural,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recisa ser construíd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660760" y="3159000"/>
            <a:ext cx="574560" cy="733680"/>
          </a:xfrm>
          <a:custGeom>
            <a:avLst/>
            <a:gdLst>
              <a:gd name="textAreaLeft" fmla="*/ 0 w 574560"/>
              <a:gd name="textAreaRight" fmla="*/ 487080 w 574560"/>
              <a:gd name="textAreaTop" fmla="*/ 57528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482360" y="2247120"/>
            <a:ext cx="574560" cy="804960"/>
          </a:xfrm>
          <a:custGeom>
            <a:avLst/>
            <a:gdLst>
              <a:gd name="textAreaLeft" fmla="*/ 0 w 574560"/>
              <a:gd name="textAreaRight" fmla="*/ 487080 w 574560"/>
              <a:gd name="textAreaTop" fmla="*/ 631080 h 804960"/>
              <a:gd name="textAreaBottom" fmla="*/ 805320 h 80496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18148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681520"/>
            <a:ext cx="6340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100" spc="-1" strike="noStrike">
                <a:solidFill>
                  <a:srgbClr val="c00000"/>
                </a:solidFill>
                <a:latin typeface="Arial"/>
              </a:rPr>
              <a:t>Gestão do Trabalho e da Educação na Saúde</a:t>
            </a:r>
            <a:endParaRPr b="0" lang="en-US" sz="21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7120" y="428760"/>
            <a:ext cx="804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Trabalho em equipe e integralidade com ênfase na </a:t>
            </a:r>
            <a:r>
              <a:rPr b="0" i="1" lang="pt-BR" sz="2800" spc="-1" strike="noStrike">
                <a:solidFill>
                  <a:srgbClr val="bc2669"/>
                </a:solidFill>
                <a:latin typeface="Calibri"/>
              </a:rPr>
              <a:t>micropolítica</a:t>
            </a: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 do trabalho em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760" y="1859040"/>
            <a:ext cx="8072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575"/>
              </a:spcBef>
              <a:buClr>
                <a:srgbClr val="333333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ção de saúde como </a:t>
            </a:r>
            <a:r>
              <a:rPr b="0" i="1" lang="pt-BR" sz="2400" spc="-1" strike="noStrike">
                <a:solidFill>
                  <a:srgbClr val="333333"/>
                </a:solidFill>
                <a:latin typeface="Calibri"/>
              </a:rPr>
              <a:t>processos de trabalho vivo em ato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333333"/>
                </a:solidFill>
                <a:latin typeface="Calibri"/>
              </a:rPr>
              <a:t>Arena de expressão de interesses diversos, com efeitos nas práticas de cuidado: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hegemônic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trabalho fragmentado, despersonalizado, com oferta predominante de tecnologias duras e leve-duras, usuário reificado à categoria paciente, trabalhador predominantemente capturado pela técnica e pelo conhecimento estruturado;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inovador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coordenação do cuidado, responsabilidade pelo cuidado, projetos terapêuticos singulares, domínio de tecnologias leves voltadas para a escuta e a produção de relações cuidadoras, equipes-integração.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1680" y="785880"/>
            <a:ext cx="75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: a realida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2133720"/>
            <a:ext cx="77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Verdana"/>
              </a:rPr>
              <a:t>Heterogeneidade</a:t>
            </a:r>
            <a:r>
              <a:rPr b="0" lang="pt-BR" sz="2400" spc="-1" strike="noStrike">
                <a:solidFill>
                  <a:srgbClr val="c00000"/>
                </a:solidFill>
                <a:latin typeface="Verdana"/>
              </a:rPr>
              <a:t> socioeconômica e concentração de rend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Forte concentração de renda e reduzida capacidade redistributiv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Diversificadas capacidades administrativas e fiscai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Carência de ações ampliadas de desenvolvimento social e econômico includente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133720"/>
            <a:ext cx="7961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</a:rPr>
              <a:t>Desigualdades de ofertas do mercado educativo para formação profissional na área da saúd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ntitativas - concentrações regionais 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litativas -proliferação desordenada de cursos em determinadas áreas de formação e dependências administrativas, práticas pedagógicas excludentes de uma visão de integralidade e de trabalho em equip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28760" y="571680"/>
            <a:ext cx="82296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800" spc="-1" strike="noStrike">
                <a:solidFill>
                  <a:srgbClr val="c00000"/>
                </a:solidFill>
                <a:latin typeface="Calibri"/>
              </a:rPr>
              <a:t>Desafios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1698480"/>
            <a:ext cx="787212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Mudanças necessárias para transformar o perfil do profissional formado: mais profundas do que se imaginav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Envolvem conceitos inteiramente novos: saúde, educação, responsabilidade social, mudança institucion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mplicam novas relações de poder tanto nos espaços de formação quanto nos espaços de gestão do trabalh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Grande experiência na construção da mudanç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ndispensável ação política mais geral para cenários mais favoráveis às mudança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15001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266760" algn="just">
              <a:lnSpc>
                <a:spcPct val="150000"/>
              </a:lnSpc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Defesa da ressingularização do trabalho em saúde: capacidade de subjetivação e sociabilidade heterogenética (</a:t>
            </a:r>
            <a:r>
              <a:rPr b="0" i="1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versus</a:t>
            </a: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 afirmação das identidades profissionais), educação permanente, gestão participativa e comprometida ética e politicamente com a qualidade do andar a vida etc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1680" y="571680"/>
            <a:ext cx="79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5400"/>
                </a:solidFill>
                <a:latin typeface="Calibri"/>
              </a:rPr>
              <a:t>Uma prática profissional instituinte gera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040" y="157176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mpromisso soci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ublicização”das políticas e dos espaç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rabalho e educação a partir da multiplicidade e diversi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rojetos coletiv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álise cotidiana dos processos, gestões e relaçõe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iálogos com a vida cotidiana, circuitos, trajetos, itinerário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69040" y="4962600"/>
            <a:ext cx="1974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Somada à sedução das flore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49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faz parte dos nossos pl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nfundir justiça com </a:t>
            </a:r>
            <a:r>
              <a:rPr b="1" i="1" lang="en-GB" sz="2400" spc="-1" strike="noStrike">
                <a:solidFill>
                  <a:srgbClr val="de9898"/>
                </a:solidFill>
                <a:latin typeface="Comic Sans MS"/>
              </a:rPr>
              <a:t>intolerância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57524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A sociedade que pulsa em nossos sonh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será feit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heróicos penitent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guardiões de velha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absolutas verdade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67072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Mas sim de homens e mulher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repletos de dignidade,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paixões e dúvida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93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... queremos a liber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não precisarmos abaixar os </a:t>
            </a:r>
            <a:r>
              <a:rPr b="1" i="1" lang="en-GB" sz="2400" spc="-1" strike="noStrike">
                <a:solidFill>
                  <a:srgbClr val="9e0627"/>
                </a:solidFill>
                <a:latin typeface="Comic Sans MS"/>
              </a:rPr>
              <a:t>olhos</a:t>
            </a: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 diante da miséria de muit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96920" y="17794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do privilégio de pouco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em tampouco igual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m mesmice e tédio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500040"/>
            <a:ext cx="8143920" cy="6138720"/>
          </a:xfrm>
          <a:prstGeom prst="rect">
            <a:avLst/>
          </a:prstGeom>
          <a:solidFill>
            <a:srgbClr val="ffff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AHIA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olítica Estadual de Gestão do Trabalho e da Educação Permanente   - SUS Bahia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lvador, julho de 2008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mimeo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onstituição da República Federativa do Brasil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1988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, 2005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incípios e Diretrizes para a Gestão do Trabalho no SUS (NOB/RH-SUS)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Ministério da Saúde, Conselho Nacional de Saúde. - 3. educação. rev. atual. Brasília, DF, 2005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OS,  G.W.S. Subjetividade e administração de pessoal: considerações sobre modos de gerenciar o trabalho em equipes de saúde. In: 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ECCIM, Ricardo Burg e FERLA, Alcindo Antônio. Educação e saúde: ensino e cidadania como travessia de fronteiras. Trab. Educ. Saúde, v. 6 n. 3, p. 443-456, nov.2008/fev.2009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.L., CECCIM, R. B. e MACHADO, M.H., 2004. Gestão do Trabalho e da Educação na Saúde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Revista Brasileira de Saúde da Famíli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GUATTARI, F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 três ecologia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inas, Papirus, 1990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aria Luiza,  CECCIM, Ricardo Burg e MACHADO, Maria Helena. Gestão do Trabalho e da Educação na Saúde. Revista Brasileira de Saúde da Família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ACHADO, M.H. Trabalhadores da Saúde e sua trajetória na reforma sanitária. In: BRAGA, D.G. , MACEDO, J.C. , TEIXEIRA, M. e SANTOS, L. (orgs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urso Negociação do Trabalho no SUS: caderno de texto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Fundação Oswaldo Cruz. Escola Nacional de Saúde Pública. Rio de Janeiro: EAD/ENSP, 2008. p.70-89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ORIN, E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A cabeça bem feita: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repensar a reforma, reformar o pensamento. Rio de Janeiro: Bertrand Brasil, 2000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ROVERE, M. Redes Nómades, algunas reflexiones desde una práctica de intervención. Institucional. In: Wolfberg E. (comp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evención en Salud Mental.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Ed. Lugar, Buenos Aires, 2002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WAIA, B. B.  A Dimensão Ético-Afetiva da Classe Trabalhadora. In: Bader Burihan Sawaia. (Org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Novas Veredas da Psicologia Social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Brasiliense e EDUC, 1995, v. 1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CHRAIBER, Lilia Blima et al . Planejamento, gestão e avaliação em saúde: identificando problemas.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 Ciênc. saúde coletiv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  Rio de Janeiro,  v. 4,  n. 2,  1999 . 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5840" y="285840"/>
            <a:ext cx="8643960" cy="6335640"/>
          </a:xfrm>
          <a:prstGeom prst="rect">
            <a:avLst/>
          </a:prstGeom>
          <a:solidFill>
            <a:srgbClr val="45472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 uma coisa é pôr idéias arranjad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outra é lidar com um país de pesso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de carne e sangue, de mil-e-tantas-miséria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tanta gente - dá susto saber - e nenhum se sossega: todos nascendo, crescendo, se casando, querendo colocação de emprego, comida, saúde, riqueza, ser importante, querendo chuva e bons negócios...”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6"/>
                </a:solidFill>
                <a:latin typeface="Calibri"/>
              </a:rPr>
              <a:t>Guimarães Rosa - Grande Sertão: Vereda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Do que falar...</a:t>
            </a:r>
            <a:endParaRPr b="0" lang="en-US" sz="4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1500120"/>
            <a:ext cx="7635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 trabalho na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complexidades do cotidiano 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limitações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s projetos: cuidado em saúde mental, reforma psiquiátrica, produção do conhecimento e transformação do cuidado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e pistas para a ação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5880" y="5716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O TRABALHO NA SAÚDE</a:t>
            </a:r>
            <a:br>
              <a:rPr sz="4000"/>
            </a:br>
            <a:r>
              <a:rPr b="1" i="1" lang="pt-BR" sz="1800" spc="-1" strike="noStrike">
                <a:solidFill>
                  <a:srgbClr val="99284c"/>
                </a:solidFill>
                <a:latin typeface="Calibri"/>
              </a:rPr>
              <a:t>Peduzzi, 1998 e Campos, 1997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1785960"/>
            <a:ext cx="7929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COMPLEX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SERIDO NO CONTEXTO SOCIAL AMPLO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ZIDO NAS RELAÇÕES SOCIAS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estabelece orden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EM EQUIPE - COLETIVO - FRAGMENTADO </a:t>
            </a:r>
            <a:r>
              <a:rPr b="0" lang="pt-BR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just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FLUÊNCIA DO TAYLORISMO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acumulação de normas administrativas e padronizações técnicas, guiadas por crenças na possibilidade de controlar e regulamentar o conjunto total do trabalho.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Uma nova percepção do mundo:</a:t>
            </a:r>
            <a:br>
              <a:rPr sz="2800"/>
            </a:b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interdisciplinaridade/complexida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760" y="2000160"/>
            <a:ext cx="8072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Há uma inadequação cada vez mais ampla, profunda e grave entre os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saberes separado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fragmentados, compartimentados entre disciplinas e, por outro lado,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realidades e problemas cada vez mais poli disciplinare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transversais, multidimensionais , transnacionais, globais, planetários. [...]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A hiperespecialização impede de ver o global (que ela fragmenta em parcelas), bem como o essencial (que ela dilui). [...] o retalhamento das disciplinas (no Ensino) torna impossível apreender "o que é tecido junto", isto é, o complexo, segundo o sentido original do termo.</a:t>
            </a:r>
            <a:br>
              <a:rPr sz="2000"/>
            </a:b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>
                <a:solidFill>
                  <a:srgbClr val="333333"/>
                </a:solidFill>
                <a:latin typeface="Calibri"/>
              </a:rPr>
              <a:t>Edgar Morin,</a:t>
            </a:r>
            <a:r>
              <a:rPr b="0" i="1" lang="pt-BR" sz="1600" spc="-1" strike="noStrike">
                <a:solidFill>
                  <a:srgbClr val="333333"/>
                </a:solidFill>
                <a:latin typeface="Calibri"/>
              </a:rPr>
              <a:t> 2000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8120" y="304920"/>
            <a:ext cx="579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13372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38280"/>
            <a:ext cx="7696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500040"/>
            <a:ext cx="802944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 que se considera Trabalho Precário?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noção de trabalho precário pode ser utilizada para caracterizar uma infinidade de situações oriundas das relações de trabalho, como por exemplo: baixos vencimentos ou salários ou inadequadas condições de trabalho. De maneira geral, assinala-se três situações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Ausência ou redução de direitos sociais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ondições inadequadas de trabalho que põem em risco saúde ou a vida do trabalhador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stabilidade do vínculo de trabalho, em face de sua constituição irregular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77800"/>
            <a:ext cx="8215200" cy="549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lavar a roup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Vai na fonte, vai na f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raiar o di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No horizonte, no horiz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Este lugar é uma maravilha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Mas como é que faz pra sair da ilh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Pela ponte, pela ponte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7572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A Ponte - </a:t>
            </a:r>
            <a:r>
              <a:rPr b="0" i="1" lang="pt-PT" sz="2000" spc="-1" strike="noStrike">
                <a:solidFill>
                  <a:srgbClr val="444444"/>
                </a:solidFill>
                <a:latin typeface="Lucida Calligraphy"/>
                <a:ea typeface="Times New Roman"/>
              </a:rPr>
              <a:t>Lenine e Lula Queiroga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8760" y="3643200"/>
            <a:ext cx="21492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71680" y="2357280"/>
            <a:ext cx="7772400" cy="2273400"/>
            <a:chOff x="571680" y="2357280"/>
            <a:chExt cx="7772400" cy="2273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71680" y="2357280"/>
              <a:ext cx="7772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1680" y="2357280"/>
              <a:ext cx="77724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d1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7440" y="5929200"/>
            <a:ext cx="359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0070c0"/>
                </a:solidFill>
                <a:latin typeface="Arial"/>
              </a:rPr>
              <a:t>Ceccim, Jaeger e Machado, 2004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8766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5657760"/>
            <a:ext cx="9144000" cy="858600"/>
          </a:xfrm>
          <a:prstGeom prst="rect">
            <a:avLst/>
          </a:prstGeom>
          <a:solidFill>
            <a:srgbClr val="faf1f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NOB RH/SUS + RESOLUÇÃO 335  e 330 CNS + PACTO DE GESTÃO =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GESTÃO DO TRABALHO, DESENVOLVIMENTO PROFISSIONAL,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SAÚDE OCUPACIONAL E CONTROLE SOCIAL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ndrei Braga</dc:creator>
  <dc:description/>
  <dc:language>en-US</dc:language>
  <cp:lastModifiedBy>Usuário do Windows</cp:lastModifiedBy>
  <dcterms:modified xsi:type="dcterms:W3CDTF">2010-05-25T10:48:02Z</dcterms:modified>
  <cp:revision>49</cp:revision>
  <dc:subject/>
  <dc:title>Slide 1</dc:title>
</cp:coreProperties>
</file>